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a32134"/>
              </a:solidFill>
              <a:latin typeface="Comic Sans MS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a32134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32134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32134"/>
                </a:solidFill>
                <a:latin typeface="Arial"/>
              </a:rPr>
              <a:t>&lt;date/time&gt;</a:t>
            </a:r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32134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a32134"/>
              </a:solidFill>
              <a:latin typeface="Comic Sans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32134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51B41-A279-4967-9EE7-AD3119A6B527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96E12-9E10-41AB-9618-98C02CD6C5A9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D075A-D77A-4A0C-B1E4-2E41AC0AB17A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FD8AD-31E3-4E59-A0FB-AF727F1F4147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C4BBF-D54F-43A2-AB21-582B546F940F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27B71-4528-49A4-B181-F577485D66E0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1FAA9-15F1-447B-AC1C-688EC54FA197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446CD-7B32-4B7C-81B3-37D859E57403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4AB1E-C4F2-49FE-B6C8-019B00F077E7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7B6AB-8328-4724-A408-A39CDA84F407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6C6C0-E426-42DD-AC36-6FD72839F1CB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1F1F9-EA57-451B-9E3D-3DD8353BFAAA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9EA36-FE11-44DB-B616-AB8D564CF9EA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62136-51C2-4D57-8B69-BECA126D7615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B9E55-FDFB-44A8-8091-1FB4B320D528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9128C-69B4-4FC4-91F0-30BC5A84A626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8552E-32A3-41DD-956E-EBD3D9C501A4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54CE5-6120-4CEE-9226-49AA3B4ACA77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3A140-9083-4C0B-95CC-AA1B942FB9BE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C0F3C-2AD1-4503-A5C8-E5EB31859D1D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9BFBD-08A8-496F-83ED-17BE09952453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866F4-2D83-408F-9A84-3C5633AC8CC7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2E8F4-54F7-40E6-A36B-4F55F1E6B805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2444F-0294-4AB3-BB4F-DF42E54E12F3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6EAB9-6494-4912-A21F-DDF099813927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BCAB1-47D7-40BE-9BBA-8BC9F935CAED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56E5B-37BE-4747-A306-42E2C6CAE327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4039C-CF3F-45F6-8611-EAF7E6CA8FC8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C1663-FAD3-4283-89A4-DA2A078D4A7D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A6232-1F96-4A98-A4D0-C73E117C5EE0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C2EEB-08E0-4E11-BEA5-984C34D5923F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9E7B2-5E75-4130-9F24-4DB78B377291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7B43C-003E-4C39-8197-23ADEF2DD46F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B1C17-6B21-4CD3-BDF3-4BC15642B615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C410F-A47E-4BFE-9C0A-DFC32B43AA1C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81FCB-F66D-487A-B2B9-EB5643384AA0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BAA53-ACEE-4E3B-9C66-99793F378E6F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8AA24-27F3-47B6-856A-665AC45DB185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16F5-6901-4D9F-8667-1D1350F08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0E70-C53E-4AFD-880B-FF68823E1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42EA-BB0F-41FD-9D1C-A50CA5244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5C97-4455-464E-A869-BA0B9EA85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F0C6-A356-448E-8965-63FA58EA8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69D3-506B-4318-B150-DCAE0BD01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0491-5C10-49CD-BC50-A0EE26DDD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B700-03CC-4233-AFE7-5AB77BE50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63280" y="274320"/>
            <a:ext cx="6985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2971-7F11-43A0-8E7F-E4EA6898D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27A1-CF69-4DCC-9409-14CCE2EC4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6391-14D5-4131-92F3-2C798DEFD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C82C-4EE4-4C18-A623-1A0EE6604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3213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a32134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a32134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2B9FA-1178-441C-A7A1-C6A7381187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a32134"/>
              </a:solidFill>
              <a:latin typeface="Comic Sans MS"/>
            </a:endParaRPr>
          </a:p>
        </p:txBody>
      </p:sp>
      <p:pic>
        <p:nvPicPr>
          <p:cNvPr id="5" name="Picture 7" descr="listic"/>
          <p:cNvPicPr/>
          <p:nvPr/>
        </p:nvPicPr>
        <p:blipFill>
          <a:blip r:embed="rId2"/>
          <a:stretch/>
        </p:blipFill>
        <p:spPr>
          <a:xfrm>
            <a:off x="-6480" y="-14400"/>
            <a:ext cx="1803600" cy="1676520"/>
          </a:xfrm>
          <a:prstGeom prst="rect">
            <a:avLst/>
          </a:prstGeom>
          <a:ln w="0">
            <a:noFill/>
          </a:ln>
        </p:spPr>
      </p:pic>
      <p:sp>
        <p:nvSpPr>
          <p:cNvPr id="6" name="Rectangle 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a321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400" y="1356840"/>
            <a:ext cx="8715240" cy="22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     </a:t>
            </a:r>
            <a:r>
              <a:rPr b="1" i="1" lang="sr-CS" sz="20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ИНТЕГРИСАНЕ АКАДЕМСКЕ СТУДИЈЕ СТОМАТОЛОГИЈЕ</a:t>
            </a:r>
            <a:br>
              <a:rPr sz="2000"/>
            </a:br>
            <a:r>
              <a:rPr b="1" i="1" lang="sr-CS" sz="20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ВЕШТИНА КУМУНИКАЦИЈЕ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i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Вештина комуникације у здравству</a:t>
            </a:r>
            <a:br>
              <a:rPr sz="2400"/>
            </a:br>
            <a:br>
              <a:rPr sz="2400"/>
            </a:br>
            <a:r>
              <a:rPr b="1" lang="ru-RU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Специфичности комуникације са оболелима од болести са неповољном прогнозом </a:t>
            </a:r>
            <a:br>
              <a:rPr sz="2800"/>
            </a:br>
            <a:r>
              <a:rPr b="1" lang="ru-RU" sz="1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наставна јединица 12</a:t>
            </a:r>
            <a:r>
              <a:rPr b="1" lang="ru-RU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	</a:t>
            </a:r>
            <a:br>
              <a:rPr sz="2800"/>
            </a:br>
            <a:endParaRPr b="0" lang="en-US" sz="28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роф. др Марина Петровић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Како</a:t>
            </a:r>
            <a:r>
              <a:rPr b="1" lang="hr-HR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саопштити</a:t>
            </a:r>
            <a:r>
              <a:rPr b="1" lang="hr-HR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лошу</a:t>
            </a:r>
            <a:r>
              <a:rPr b="1" lang="hr-HR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вест</a:t>
            </a:r>
            <a:br>
              <a:rPr sz="2800"/>
            </a:br>
            <a:r>
              <a:rPr b="1" lang="sr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морални</a:t>
            </a:r>
            <a:r>
              <a:rPr b="1" lang="hr-HR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и</a:t>
            </a:r>
            <a:r>
              <a:rPr b="1" lang="hr-HR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комуникацијски</a:t>
            </a:r>
            <a:r>
              <a:rPr b="1" lang="hr-HR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изазов</a:t>
            </a:r>
            <a:endParaRPr b="0" lang="en-US" sz="28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57120" y="1428480"/>
            <a:ext cx="4214880" cy="507348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о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ма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раво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нформацију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ечијој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ијагнози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рогнози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? (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олесник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ма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раво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Е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знати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,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ако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је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то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његова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жеља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бро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је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а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ви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чланови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тима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буду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упознати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тим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што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болесник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зна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ада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очети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аопштавање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?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орак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о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орак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.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јбоље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очетку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спитивања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ако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е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умња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у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лош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сход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.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Тако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тестирамо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темпо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ојим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е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олесник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жели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упознавати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а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војим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тањем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ека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редина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уде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мирна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,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удобна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,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ез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могућности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узнемиравања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онцентришите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е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а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аговорника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гледајте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га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мирно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у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чи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Евентуално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ористите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одир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Заштитнички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рођак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ли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ријатељ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“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н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е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мије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знати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!”.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итајмо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га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: “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Зашто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заправо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е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желите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а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олесник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азна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стину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?”.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6200" y="1356840"/>
            <a:ext cx="4214880" cy="505476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Болесници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обично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е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запамте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ста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з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разговора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,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јер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у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узнемирени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,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а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је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бро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а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буде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још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еко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рисутан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.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ли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ерија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ратких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разговора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“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обили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мо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резултате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тестова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.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Чини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е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а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у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вести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лошије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его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што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мо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чекивали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.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Желите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ли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а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Вам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ажем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шта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мо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ашли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?”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“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ашли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мо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ћелије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рака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.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ојим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е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а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је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то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за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Вас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риличан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шок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.”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Желео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бих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а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ама да поразговарам 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ако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а решимо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роблем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.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а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онтролишемо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имптоме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. “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ез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лажне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аде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.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разговарајмо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томе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.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Шта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мислите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ако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е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олест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развија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.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Зашто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мислите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а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ћете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умрети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?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0008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ABCDE </a:t>
            </a:r>
            <a:r>
              <a:rPr b="1" lang="sr-CS" sz="32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модел</a:t>
            </a:r>
            <a:r>
              <a:rPr b="1" lang="sr-Latn-CS" sz="32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комуникације</a:t>
            </a:r>
            <a:r>
              <a:rPr b="1" lang="sr-Latn-CS" sz="32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0" y="1857240"/>
            <a:ext cx="914400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A - Advance preparation 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(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рипрема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унапред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B - Build a therapeutic relationship</a:t>
            </a:r>
            <a:r>
              <a:rPr b="1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(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успостављањ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терапеутског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дн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o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a)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C - Communicate well 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(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оришћењ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обр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вештин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комуникациј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e)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D - Deal with patient's and family reactions</a:t>
            </a:r>
            <a:r>
              <a:rPr b="1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(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третман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реакције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ацијента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реакциј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a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родиц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e)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E - Encourage and validate emotions (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дстицај</a:t>
            </a:r>
            <a:r>
              <a:rPr b="0" lang="en-U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 третман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емоциј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ADVANCE PREPARATION</a:t>
            </a:r>
            <a:br>
              <a:rPr sz="3600"/>
            </a:b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(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припрема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унапред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85840" y="1857240"/>
            <a:ext cx="857232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Уверит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а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за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нтервју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овољно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времена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,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приватност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ез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пољних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ремећаја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Реконструишите релевантн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тручн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медицинске информације</a:t>
            </a:r>
            <a:r>
              <a:rPr b="0" lang="vi-VN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</a:t>
            </a:r>
            <a:r>
              <a:rPr b="0" lang="vi-VN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огађаје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Ментално</a:t>
            </a:r>
            <a:r>
              <a:rPr b="0" lang="it-IT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е</a:t>
            </a:r>
            <a:r>
              <a:rPr b="0" lang="it-IT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рипремите</a:t>
            </a:r>
            <a:r>
              <a:rPr b="0" lang="it-IT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за</a:t>
            </a:r>
            <a:r>
              <a:rPr b="0" lang="it-IT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нтервју</a:t>
            </a:r>
            <a:r>
              <a:rPr b="0" lang="it-IT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размислите</a:t>
            </a:r>
            <a:r>
              <a:rPr b="0" lang="it-IT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 том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ој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речи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ћет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ористити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ој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треба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а избегнете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рипремит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емотивно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дложит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“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лични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ртљаг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”)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43040" y="285480"/>
            <a:ext cx="750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BUILD A THERAPEUTIC</a:t>
            </a:r>
            <a:r>
              <a:rPr b="1" lang="sr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RELATIONSHIP 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(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успостављање терапеутског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одн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o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с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a)</a:t>
            </a:r>
            <a:endParaRPr b="0" lang="en-US" sz="24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28400" y="1714320"/>
            <a:ext cx="80010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редложит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рисуство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члана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родиц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ацијента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редставит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вим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учесницима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Упозорит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ацијента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а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ћ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азнати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лошу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вест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ористите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одир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ада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је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то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рикладно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дредит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атум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ледећег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астанка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COMMUNICATE WELL 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(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коришћењ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e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д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o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бр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e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в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e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штин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e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комуникације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42560" y="1571760"/>
            <a:ext cx="900108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итајт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шта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ацијент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већ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зна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роцените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олико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их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волео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а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зна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удит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скрени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збегавајт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медицинску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терминологију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ажљиво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/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равилно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ористит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реч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нтервју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водит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а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“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рзином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ацијента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”,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озволит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тишину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   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узе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дстакните</a:t>
            </a:r>
            <a:r>
              <a:rPr b="0" lang="vi-VN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ацијента</a:t>
            </a:r>
            <a:r>
              <a:rPr b="0" lang="vi-VN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а</a:t>
            </a:r>
            <a:r>
              <a:rPr b="0" lang="vi-VN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пише</a:t>
            </a:r>
            <a:r>
              <a:rPr b="0" lang="vi-VN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разумевање</a:t>
            </a:r>
            <a:r>
              <a:rPr b="0" lang="vi-VN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огађаја </a:t>
            </a:r>
            <a:r>
              <a:rPr b="0" lang="pl-PL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(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олести</a:t>
            </a:r>
            <a:r>
              <a:rPr b="0" lang="pl-PL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Размотрит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врем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за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итања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запишит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важн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нформације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   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ој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нтересују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ацијента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нудит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реалну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аду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кладу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а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циљевима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ацијента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ористит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нтердисциплинарн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ресурсе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28480" y="285840"/>
            <a:ext cx="73198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sr-Latn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DEAL WITH PATIENT’S AND</a:t>
            </a:r>
            <a:br>
              <a:rPr sz="2800"/>
            </a:br>
            <a:r>
              <a:rPr b="1" lang="sr-Latn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FAMILY REACTIONS </a:t>
            </a:r>
            <a:br>
              <a:rPr sz="3200"/>
            </a:b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(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третман реакције</a:t>
            </a:r>
            <a:r>
              <a:rPr b="1" lang="pl-PL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пацијента</a:t>
            </a:r>
            <a:r>
              <a:rPr b="1" lang="pl-PL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и</a:t>
            </a:r>
            <a:r>
              <a:rPr b="1" lang="pl-PL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реакциј</a:t>
            </a:r>
            <a:r>
              <a:rPr b="1" lang="pl-PL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a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породице</a:t>
            </a:r>
            <a:r>
              <a:rPr b="1" lang="pl-PL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sr-Latn-CS" sz="2400" spc="-1" strike="noStrike">
                <a:solidFill>
                  <a:srgbClr val="a32134"/>
                </a:solidFill>
                <a:latin typeface="Arial"/>
              </a:rPr>
              <a:t></a:t>
            </a:r>
            <a:endParaRPr b="0" lang="en-US" sz="24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13840" y="1928520"/>
            <a:ext cx="821556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сматрајт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третирајт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емоционалне реакциј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ацијента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родиц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новит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ри свакој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сети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удит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аосећајни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аглашавајући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артнерски однос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а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ацијентима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емојт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оментарисати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ритиковати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олеге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ENCOURAGE AND VALIDATE</a:t>
            </a:r>
            <a:br>
              <a:rPr sz="2800"/>
            </a:br>
            <a:r>
              <a:rPr b="1" lang="sv-SE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EMOTIONS </a:t>
            </a:r>
            <a:br>
              <a:rPr sz="2800"/>
            </a:br>
            <a:r>
              <a:rPr b="1" lang="sv-SE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(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подстицај</a:t>
            </a:r>
            <a:r>
              <a:rPr b="1" lang="sv-SE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и</a:t>
            </a:r>
            <a:r>
              <a:rPr b="1" lang="sv-SE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третман</a:t>
            </a:r>
            <a:r>
              <a:rPr b="1" lang="sv-SE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емоције</a:t>
            </a:r>
            <a:r>
              <a:rPr b="1" lang="sv-SE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14200" y="1857240"/>
            <a:ext cx="850104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азнајте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шта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значи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вест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за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ацијента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озволит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зражавањ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сећања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ако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е осећате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?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То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мора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а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је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лоше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за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вас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? ... )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ринит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вашим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требама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удите пријемчивији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за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треб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укључених запослених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ругих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соба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85920" y="-429120"/>
            <a:ext cx="7858080" cy="317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Комуникација у палијативном збрињавању </a:t>
            </a:r>
            <a:endParaRPr b="0" lang="en-US" sz="28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2920" y="1928880"/>
            <a:ext cx="8786880" cy="428616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стина, као и отвореност и искреност у вези са стањем пацијента, су кључ делотворног збрињавања умирућих болесника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творена комуникација не убија наду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стоје докази да већина људи жели да зна истину и да се боље носи са ситуацијом ако јој се подршка пружа путем искреног разговора о ситуацији у кој се налази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ада се обавља саосећајно, отворена комуникација пацијенту даје наду и храброст да се суочи и носи са ситуацијом у којој се налази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13840" y="428760"/>
            <a:ext cx="89298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              </a:t>
            </a:r>
            <a:r>
              <a:rPr b="1" lang="sr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Комуникација у палијативном збрињавању </a:t>
            </a:r>
            <a:endParaRPr b="0" lang="en-US" sz="28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13840" y="1928520"/>
            <a:ext cx="89298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једна од кључних комуникацијских вештина у палијативном збрињавању је препознавање знакова/сигнала које даје пацијент и реаговање на њих, односно омогућавање пацијенту да разговара о питањима која га муче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28440" y="-357480"/>
            <a:ext cx="8001000" cy="307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      </a:t>
            </a:r>
            <a:r>
              <a:rPr b="1" lang="sr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ИСКРЕНА ОТВОРЕНА КОМУНИКАЦИЈА</a:t>
            </a:r>
            <a:endParaRPr b="0" lang="en-US" sz="28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57120" y="2143080"/>
            <a:ext cx="8429760" cy="350064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опринос изградњи поверења и емпатије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мањује неизвесност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маже пацијенту да се носи са сиуацијом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држава реалне наде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редставља прилику да се, кроз препознавање сигнала које пацијент даје, разговара о ономе што брине пацијента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маже пацијенту и породици да преузму контролу и да се припреме за смрт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13880" y="1642680"/>
            <a:ext cx="7743960" cy="19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85840" y="1714320"/>
            <a:ext cx="857232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Шта је лоша вест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а</a:t>
            </a:r>
            <a:r>
              <a:rPr b="1" lang="sv-SE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медицинске</a:t>
            </a:r>
            <a:r>
              <a:rPr b="1" lang="sv-SE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тачке</a:t>
            </a:r>
            <a:r>
              <a:rPr b="1" lang="sv-SE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гледишта</a:t>
            </a:r>
            <a:r>
              <a:rPr b="1" lang="sv-SE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:</a:t>
            </a:r>
            <a:r>
              <a:rPr b="0" lang="sv-SE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егативан утиц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ј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а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здравствено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тање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ацијента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у будућности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Утицај лоших вести о искуству себе</a:t>
            </a:r>
            <a:r>
              <a:rPr b="1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: “I left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my house on October 2, 1996, as one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person and came home another”. (Lance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Armstrong)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214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ДЕЛОТВОРНА КОМУНИКАЦИЈА</a:t>
            </a:r>
            <a:endParaRPr b="0" lang="en-US" sz="28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2560" y="1857240"/>
            <a:ext cx="8715240" cy="31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Осим вештине комуникације, комуникацију подстиче и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кружење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овољно времена на располагању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оступност здравсвених радника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тав здравствених радника о томе да је комуникација  важна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9680" y="-214200"/>
            <a:ext cx="864396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           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ПРЕПРЕКЕ ДЕЛОТВОРНОЈ  КОМУНИКАЦИЈИ</a:t>
            </a:r>
            <a:endParaRPr b="0" lang="en-US" sz="24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840" y="1428480"/>
            <a:ext cx="85726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аријере професионалаца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страх нпр.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 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-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а ће се пацијент узнемирити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  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- да ће донети више штете него користи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веровања нпр.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  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-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а се ништа не може урадити у погледу емоционалних питања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   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- да се разговором о бригама/стрепњама пацијента његова очекивања неоправдано  повећавају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неодговарајуће вештине нпр.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   </a:t>
            </a:r>
            <a:r>
              <a:rPr b="1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-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здравствени радник није сигуран како да се носи са тешком ситуацијом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  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- неспособност процене сазнања пацијента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недостатак подршке нпр.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  </a:t>
            </a:r>
            <a:r>
              <a:rPr b="1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-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зостанак подршке пацијенту уколико се проблеми идентификују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  </a:t>
            </a:r>
            <a:r>
              <a:rPr b="1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-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зостанак подршке тима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1680" y="-786240"/>
            <a:ext cx="8572320" cy="335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        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ПРЕПРЕКЕ ДЕЛОТВОРНОЈ  КОМУНИКАЦИЈИ</a:t>
            </a:r>
            <a:endParaRPr b="0" lang="en-US" sz="24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85480" y="1642680"/>
            <a:ext cx="864396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аријере пацијената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страх нпр.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 </a:t>
            </a:r>
            <a:r>
              <a:rPr b="1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-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д признања да нису у стању да се носе са ситуацијом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-</a:t>
            </a:r>
            <a:r>
              <a:rPr b="0" lang="sr-CS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д тога да ће се њихови најгори страхови обистинити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веровања нпр.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а су здравствени радници презаузети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а су њихове бриге неважне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отешкоће нпр.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-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а искажу осећања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- да нађу праве речи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- сигнали које дају здравственим радницима се игноришу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    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Најчешћи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облици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реакција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на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дијагнозу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лечење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малигне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болести</a:t>
            </a:r>
            <a:endParaRPr b="0" lang="en-US" sz="24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5480" y="1428840"/>
            <a:ext cx="8429400" cy="521640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Знаци и тип реакције                                 Просечно трајање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ериод 1 – суочавање са болешћу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еверица или негирање ( ја немам рак)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грешна дијагноза, грешка у прегледу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    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( " то није мој налаз", "налаз је замењен")                             </a:t>
            </a:r>
            <a:r>
              <a:rPr b="1" lang="sr-CS" sz="1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НЕКОЛИКО ДАНА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чајање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кептицизам ( " ја сам готов", " сви с раком умиру")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еслагање са новијим методама и 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    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редствима- техникама лечења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    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Најчешћи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облици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реакција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на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дијагнозу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лечење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малигне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болести</a:t>
            </a:r>
            <a:endParaRPr b="0" lang="en-US" sz="24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5840" y="1642680"/>
            <a:ext cx="8501040" cy="500076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Знаци и тип реакције                                 Просечно трајање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ериод 2 – Дисфорија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анксиозност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епресија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анорексија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раздражљивост                                                                     </a:t>
            </a:r>
            <a:r>
              <a:rPr b="1" lang="sr-CS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1 - 2 НЕДЕЉЕ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есаница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слабљена концентрација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ремећене дневне активности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                                   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     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    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Најчешћи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облици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реакција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на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дијагнозу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лечење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малигне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болести</a:t>
            </a:r>
            <a:endParaRPr b="0" lang="en-US" sz="24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14200" y="1714680"/>
            <a:ext cx="8501040" cy="457344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txBody>
          <a:bodyPr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Знаци и тип реакције                              Просечно трајање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ериод 3 – Адаптација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рилагођавање новим информацијама о лечењу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    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рехабилитацији, будућности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уочавање са стварним информацијама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тражење разлога за оптимизам                                   </a:t>
            </a:r>
            <a:r>
              <a:rPr b="1" lang="sr-CS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МЕСЕЦ ДАНА и више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роналаза нових циљева у животу, послу,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    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активности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                                   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     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    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ИЗАЗОВИ У КОМУНИКАЦИЈИ </a:t>
            </a:r>
            <a:endParaRPr b="0" lang="en-US" sz="24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56760" y="1571760"/>
            <a:ext cx="8358120" cy="457344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рицање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ослух са породицом пацијента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тешка питања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онфликт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емотивне реакције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                                   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     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    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ПОРИЦАЊЕ</a:t>
            </a:r>
            <a:endParaRPr b="0" lang="en-US" sz="24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85480" y="1856880"/>
            <a:ext cx="8358120" cy="428652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рицање је несвесни ментални процес који служи ко одбрана против анксиозности који изазива спољна  претња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то је нормална и здрава реакција која постаје патолошка тек када 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      </a:t>
            </a:r>
            <a:r>
              <a:rPr b="0" i="1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" искриви"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ли потпуно одбаци стварност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кретање пажње је нормално и може помоћи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рицању се морамо супротставити  ако изазива штету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сле порицања обично следе бес, кривица, депресија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                                   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     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    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ПОДРШКА ПАЦИЈЕНТУ КОЈИ НЕ ПРИХВАТА ИСТИНУ</a:t>
            </a:r>
            <a:endParaRPr b="0" lang="en-US" sz="24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85480" y="1856880"/>
            <a:ext cx="8358120" cy="428652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лушајте га и дозволите му да изрази мисли и осећања: прихватите, али не подстичите и не одобравајте порицање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дстичите наду, али избегавајте давање лажне утехе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лушајте га да бисте препознали конкретне бриге, пажљиво га подстакните да Вам каже више о томе што га мучи: направите атмосферу сигурности у којој болна стварност може бити свесно прихваћна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нудите решења за одређене бриге, нпр. </a:t>
            </a:r>
            <a:r>
              <a:rPr b="0" i="1" lang="sr-C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ако ова болест изазива јак бол, има много начина на које се може помоћи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i="1" lang="sr-CS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?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ако је порицање проблем, покушајте да се благо супроставите нпр., </a:t>
            </a:r>
            <a:r>
              <a:rPr b="0" i="1" lang="sr-C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а ли икада размишљате о томе да се то можда неће догодити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i="1" lang="sr-C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?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тражите " пукотину" у  порицању, нпр. </a:t>
            </a:r>
            <a:r>
              <a:rPr b="0" i="1" lang="sr-CS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Изгледа као да се питате да ли нешто друго изазив бол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i="1" lang="sr-CS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?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    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БЕС/ ЉУТЊА</a:t>
            </a:r>
            <a:endParaRPr b="0" lang="en-US" sz="24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85480" y="1714680"/>
            <a:ext cx="8358120" cy="428616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ес је уобичајена реакција на губитак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У основи беса су осећања беспомоћности и очајничке потраге да се свету да ново значење пошто је претходно измакло контроли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Важно је да не покушавате да објашњењем умирите бес када комуницирате са неким ко изражава бес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аслушајте и препознајте и прихватите такво испољавање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спитајте разлоге за бес пажљивим слушањем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3840" y="1356840"/>
            <a:ext cx="8929800" cy="30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-457200">
              <a:lnSpc>
                <a:spcPct val="100000"/>
              </a:lnSpc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Тежина</a:t>
            </a:r>
            <a:r>
              <a:rPr b="0" lang="it-IT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егативне</a:t>
            </a:r>
            <a:r>
              <a:rPr b="0" lang="it-IT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вести</a:t>
            </a:r>
            <a:r>
              <a:rPr b="0" lang="it-IT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зависи</a:t>
            </a:r>
            <a:r>
              <a:rPr b="0" lang="it-IT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д</a:t>
            </a:r>
            <a:r>
              <a:rPr b="0" lang="it-IT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разлике између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чекивања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ацијента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за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удућност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 здравственог</a:t>
            </a:r>
            <a:r>
              <a:rPr b="0" lang="nl-N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тања</a:t>
            </a:r>
            <a:r>
              <a:rPr b="0" lang="nl-N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у</a:t>
            </a:r>
            <a:r>
              <a:rPr b="0" lang="nl-N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атој</a:t>
            </a:r>
            <a:r>
              <a:rPr b="0" lang="nl-N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итуацији</a:t>
            </a:r>
            <a:br>
              <a:rPr sz="2400"/>
            </a:br>
            <a:br>
              <a:rPr sz="2400"/>
            </a:br>
            <a:r>
              <a:rPr b="0" lang="sr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На</a:t>
            </a:r>
            <a:r>
              <a:rPr b="0" lang="pt-BR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одговор</a:t>
            </a:r>
            <a:r>
              <a:rPr b="0" lang="pt-BR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/ </a:t>
            </a:r>
            <a:r>
              <a:rPr b="0" lang="sr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доживљавање</a:t>
            </a:r>
            <a:r>
              <a:rPr b="0" lang="pt-BR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ацијента</a:t>
            </a:r>
            <a:r>
              <a:rPr b="0" lang="pt-BR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утиче психосоциални</a:t>
            </a:r>
            <a:r>
              <a:rPr b="0" lang="sr-Latn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контекст</a:t>
            </a:r>
            <a:r>
              <a:rPr b="0" lang="sr-Latn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:</a:t>
            </a:r>
            <a:br>
              <a:rPr sz="2400"/>
            </a:br>
            <a:r>
              <a:rPr b="0" lang="sr-Latn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- Дијагноз</a:t>
            </a:r>
            <a:r>
              <a:rPr b="0" lang="sr-Latn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a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ест</a:t>
            </a:r>
            <a:r>
              <a:rPr b="0" lang="sr-Latn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a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илне</a:t>
            </a:r>
            <a:r>
              <a:rPr b="0" lang="sr-Latn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АП</a:t>
            </a:r>
            <a:r>
              <a:rPr b="0" lang="sr-Latn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</a:t>
            </a:r>
            <a:r>
              <a:rPr b="0" lang="sr-Latn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o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ј</a:t>
            </a:r>
            <a:r>
              <a:rPr b="0" lang="sr-Latn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a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з</a:t>
            </a:r>
            <a:r>
              <a:rPr b="0" lang="sr-Latn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a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хтев</a:t>
            </a:r>
            <a:r>
              <a:rPr b="0" lang="sr-Latn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a PCI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т</a:t>
            </a:r>
            <a:r>
              <a:rPr b="0" lang="nb-NO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o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</a:t>
            </a:r>
            <a:r>
              <a:rPr b="0" lang="nb-NO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o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м</a:t>
            </a:r>
            <a:r>
              <a:rPr b="0" lang="nb-NO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едељ</a:t>
            </a:r>
            <a:r>
              <a:rPr b="0" lang="nb-NO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e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свадб</a:t>
            </a:r>
            <a:r>
              <a:rPr b="0" lang="nb-NO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e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вој</a:t>
            </a:r>
            <a:r>
              <a:rPr b="0" lang="nb-NO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e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ћ</a:t>
            </a:r>
            <a:r>
              <a:rPr b="0" lang="nb-NO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e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рк</a:t>
            </a:r>
            <a:r>
              <a:rPr b="0" lang="nb-NO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e</a:t>
            </a:r>
            <a:br>
              <a:rPr sz="2000"/>
            </a:b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- Тремор</a:t>
            </a:r>
            <a:r>
              <a:rPr b="0" lang="sr-Latn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хирурга</a:t>
            </a:r>
            <a:endParaRPr b="0" lang="en-US" sz="2000" spc="-1" strike="noStrike">
              <a:solidFill>
                <a:srgbClr val="a32134"/>
              </a:solidFill>
              <a:latin typeface="Arial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    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ТАЈНИ ДОГОВОР/ ДОСЛУХ</a:t>
            </a:r>
            <a:endParaRPr b="0" lang="en-US" sz="24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85480" y="1642680"/>
            <a:ext cx="8358120" cy="478620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тајно договарање родбине пацијента је честа појава, али се може срести и код професионалаца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рођаци могу да замоле здравственог радника да прикрије информације од пацијента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важно је запамтити да је оваква врста дослуха често чин љубави или потребе да другог заштитите од бола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ни који инсистирају на дослуху често твдре да пацијента познају боље од здравтвених радника и да знају " шта пацијент може да поднесе".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родбина често сматра да ће се саопштавањем истине пацијенту одузети нада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спитајте разлоге за прикривање истине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бјасните породици пацијента да мора да се изађе у сусрет пацијентових потреба за објашњењем, којим ће се побољшати његово разумевање сопствене ситуације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рво се договорите да приђете пацијенту са циљем да проверите колико он разуме ситуацију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    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ТАЈНИ ДОГОВОР/ ДОСЛУХ</a:t>
            </a:r>
            <a:endParaRPr b="0" lang="en-US" sz="24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85480" y="1785960"/>
            <a:ext cx="8358120" cy="457200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бећаје да пацијенту нећете дати ни једну информацијију коју он не затражи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бјасните рођацима да када се прихвати реална ситуација нада може да има више смисла и да се заснива на краткорочним достижним информацијама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а онима који желе да прикрију истину разговарајте о емоционалној цени таквог поступка. Нагласите колико је та емоционална цена висока и испитајте са рођацима колико је вероватно да и сам пацијент прећуткује да зна истину и да је свестан истине, односо да сумња и да је спреман да разговара о важним питањима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бјасните да искрени разговор омогућава пружање утехе пацијенту у вези са многим питањима која га брину и да му помаже да буде смиренији и планира, односно да  прилагоди своје наде и циљеве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рганизујте поновни разговор и отворите могућност да се сусретнете заједно са пацијентом и рођацима ако су и једни и други свесни реалности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    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ТЕШКА ПИТАЊА</a:t>
            </a:r>
            <a:endParaRPr b="0" lang="en-US" sz="24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5480" y="1856880"/>
            <a:ext cx="8358120" cy="428652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а ли има лека?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Зашто ја ?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олико времена ми је преостало ?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Шта ће се десити након овога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(последњих часова живота) ?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а ли би нека друга терапија помогла ?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    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ТЕШКА ПИТАЊА</a:t>
            </a:r>
            <a:endParaRPr b="0" lang="en-US" sz="24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85480" y="1856880"/>
            <a:ext cx="8358120" cy="428652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Многа од ових питања су реторичка и на њих нема јасних одговора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пак, она дају прилику да се истраже осећања и помажу да се " избаце" највећи страхови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Углавном се ради о настојању да се ситуацији да неки смисао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    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ПОСТУПАЊЕ У СЛУЧАЈУ ТЕШКИХ ПИТАЊА</a:t>
            </a:r>
            <a:endParaRPr b="0" lang="en-US" sz="24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85480" y="1856880"/>
            <a:ext cx="8358120" cy="428652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роверите зашто је пацијент поставио дато питање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кажите да сте заинтересовани за његове идеје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тврдите оно што пацијент говори или елаборирајте нпр . 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     </a:t>
            </a:r>
            <a:r>
              <a:rPr b="1" i="1" lang="sr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Вероватно сте у праву ..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удите спремни да признате да нешто незнате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кажите емпатију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 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Због чега комуникација </a:t>
            </a:r>
            <a:r>
              <a:rPr b="1" i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" пуца"</a:t>
            </a:r>
            <a:endParaRPr b="0" lang="en-US" sz="24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85480" y="1856880"/>
            <a:ext cx="8358120" cy="428652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ацијенти понекад не могу да нађу речи којима би изразили своја осећања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ацијенти не желе да буду терет и боје се да ће </a:t>
            </a:r>
            <a:r>
              <a:rPr b="0" i="1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"пући",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дносно да ће им живци попустити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ацијенти се стиде да признају да имају проблем са савладавањем сопствене ситуације, или им професионалци делују превише заузето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здравстевени радници се боје да ће код пацијента изазвати душевни бол, штету или бригу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здравствени радници се не осећају на свом терену и сматрају да емоционална подршка није део њихове професионалне улоге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емоционални одговор пацијента нас лично погађа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 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Понашање које спречава комуникацију</a:t>
            </a:r>
            <a:endParaRPr b="0" lang="en-US" sz="24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85480" y="1856880"/>
            <a:ext cx="8358120" cy="428652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рерано давање савета и утехе, пре него што се уопште идентификује главни проблем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иподаштавање душевног бола као нечег нормалног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фокусирање на физичке аспекте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ромене теме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успутно " развесељавање" пацијента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ЗАКЉУЧАК</a:t>
            </a:r>
            <a:endParaRPr b="0" lang="en-US" sz="24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85480" y="1856880"/>
            <a:ext cx="8358120" cy="428652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скрена и отворена комуникација је кључан елемент палијативног збрињавања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стоје обрасци које можемо користити када се нађемо у тешким ситуацијама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здравствене раднике не треба да буде страх да признају да нешто не знају, или да им је потребна помоћ у одређеној ситуацији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циљ делотворне комуникације је да се од пацијента и чланова његове породице" извуче" шта осећају, о чему размишљају, шта их брине и да им  се пруже одговарајуће повратне информације, подршка и утеха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52984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Најважније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карактеристике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када саопштавате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лоше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вести</a:t>
            </a:r>
            <a:endParaRPr b="0" lang="en-US" sz="24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214200" y="2714760"/>
            <a:ext cx="8415360" cy="29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зиција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/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риступ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људи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оји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омуницирају лош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вести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Јасноћа информације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пособност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а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дговори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итања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иј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золована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вештина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већ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себан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блик комуникације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5840" y="642600"/>
            <a:ext cx="914400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Зашто</a:t>
            </a:r>
            <a:r>
              <a:rPr b="1" lang="pl-PL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је</a:t>
            </a:r>
            <a:r>
              <a:rPr b="1" lang="pl-PL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тешко</a:t>
            </a:r>
            <a:r>
              <a:rPr b="1" lang="pl-PL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комуницирати</a:t>
            </a:r>
            <a:r>
              <a:rPr b="1" lang="pl-PL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у</a:t>
            </a:r>
            <a:r>
              <a:rPr b="1" lang="pl-PL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случају лоше</a:t>
            </a:r>
            <a:r>
              <a:rPr b="1" lang="sr-Latn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вести</a:t>
            </a:r>
            <a:endParaRPr b="0" lang="en-US" sz="28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13840" y="2571480"/>
            <a:ext cx="8929800" cy="29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Развој</a:t>
            </a:r>
            <a:r>
              <a:rPr b="0" lang="sr-Latn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контратрансфера</a:t>
            </a:r>
            <a:r>
              <a:rPr b="0" lang="sr-Latn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насупрот</a:t>
            </a:r>
            <a:r>
              <a:rPr b="0" lang="sr-Latn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ацијенту</a:t>
            </a:r>
            <a:r>
              <a:rPr b="0" lang="sr-Latn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: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трах да</a:t>
            </a:r>
            <a:r>
              <a:rPr b="0" lang="it-IT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га</a:t>
            </a:r>
            <a:r>
              <a:rPr b="0" lang="it-IT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вредимо</a:t>
            </a:r>
            <a:r>
              <a:rPr b="0" lang="it-IT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трах</a:t>
            </a:r>
            <a:r>
              <a:rPr b="0" lang="it-IT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д</a:t>
            </a:r>
            <a:r>
              <a:rPr b="0" lang="it-IT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губитка</a:t>
            </a:r>
            <a:r>
              <a:rPr b="0" lang="it-IT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онтроле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Успех</a:t>
            </a:r>
            <a:r>
              <a:rPr b="0" lang="sr-Latn-CS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тренинга</a:t>
            </a:r>
            <a:r>
              <a:rPr b="0" lang="sr-Latn-CS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комуникацијских</a:t>
            </a:r>
            <a:r>
              <a:rPr b="0" lang="sr-Latn-CS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вештина</a:t>
            </a:r>
            <a:r>
              <a:rPr b="0" lang="sr-Latn-CS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?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Вештине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омуникације</a:t>
            </a:r>
            <a:r>
              <a:rPr b="0" lang="pl-PL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е</a:t>
            </a:r>
            <a:r>
              <a:rPr b="0" lang="pl-PL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е</a:t>
            </a:r>
            <a:r>
              <a:rPr b="0" lang="pl-PL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реносе</a:t>
            </a:r>
            <a:r>
              <a:rPr b="0" lang="pl-PL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аутоматски</a:t>
            </a:r>
            <a:r>
              <a:rPr b="0" lang="pl-PL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д</a:t>
            </a:r>
            <a:r>
              <a:rPr b="0" lang="pl-PL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учења до</a:t>
            </a:r>
            <a:r>
              <a:rPr b="0" lang="sr-Latn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реалности</a:t>
            </a:r>
            <a:r>
              <a:rPr b="0" lang="sr-Latn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а</a:t>
            </a:r>
            <a:r>
              <a:rPr b="0" lang="sr-Latn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омуницирају</a:t>
            </a:r>
            <a:r>
              <a:rPr b="0" lang="sr-Latn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а</a:t>
            </a:r>
            <a:r>
              <a:rPr b="0" lang="sr-Latn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ацијентима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"</a:t>
            </a:r>
            <a:r>
              <a:rPr b="0" lang="sr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Филозофско</a:t>
            </a:r>
            <a:r>
              <a:rPr b="0" lang="sr-Latn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" </a:t>
            </a:r>
            <a:r>
              <a:rPr b="0" lang="sr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итање</a:t>
            </a:r>
            <a:r>
              <a:rPr b="0" lang="sr-Latn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: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ој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вештин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омуникације се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понтано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ауче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током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тудија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а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слу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?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Кој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треба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а с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ауч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?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5840" y="785880"/>
            <a:ext cx="91440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Зашто</a:t>
            </a:r>
            <a:r>
              <a:rPr b="1" lang="pl-PL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је</a:t>
            </a:r>
            <a:r>
              <a:rPr b="1" lang="pl-PL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тешко</a:t>
            </a:r>
            <a:r>
              <a:rPr b="1" lang="pl-PL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комуницирати</a:t>
            </a:r>
            <a:r>
              <a:rPr b="1" lang="pl-PL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у</a:t>
            </a:r>
            <a:r>
              <a:rPr b="1" lang="pl-PL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случају лоше</a:t>
            </a:r>
            <a:r>
              <a:rPr b="1" lang="sr-Latn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вести</a:t>
            </a:r>
            <a:endParaRPr b="0" lang="en-US" sz="28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13840" y="2571480"/>
            <a:ext cx="8929800" cy="29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ацијент</a:t>
            </a:r>
            <a:r>
              <a:rPr b="0" lang="pl-PL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и</a:t>
            </a:r>
            <a:r>
              <a:rPr b="0" lang="pl-PL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лекар</a:t>
            </a:r>
            <a:r>
              <a:rPr b="0" lang="pl-PL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имају</a:t>
            </a:r>
            <a:r>
              <a:rPr b="0" lang="pl-PL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другачије</a:t>
            </a:r>
            <a:r>
              <a:rPr b="0" lang="pl-PL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ерспективе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: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ацијент</a:t>
            </a:r>
            <a:r>
              <a:rPr b="0" lang="pt-B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е</a:t>
            </a:r>
            <a:r>
              <a:rPr b="0" lang="pt-B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арем</a:t>
            </a:r>
            <a:r>
              <a:rPr b="0" lang="pt-B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елимично</a:t>
            </a:r>
            <a:r>
              <a:rPr b="0" lang="pt-B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ада</a:t>
            </a:r>
            <a:r>
              <a:rPr b="0" lang="pt-B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а</a:t>
            </a:r>
            <a:r>
              <a:rPr b="0" lang="pt-B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обру вест</a:t>
            </a:r>
            <a:r>
              <a:rPr b="0" lang="sr-Latn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лекар</a:t>
            </a:r>
            <a:r>
              <a:rPr b="0" lang="sr-Latn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мора</a:t>
            </a:r>
            <a:r>
              <a:rPr b="0" lang="sr-Latn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а представи</a:t>
            </a:r>
            <a:r>
              <a:rPr b="0" lang="sr-Latn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лоше</a:t>
            </a:r>
            <a:r>
              <a:rPr b="0" lang="sr-Latn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чињенице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Извештавање</a:t>
            </a:r>
            <a:r>
              <a:rPr b="0" lang="sr-Latn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"</a:t>
            </a:r>
            <a:r>
              <a:rPr b="0" lang="sr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озбилних</a:t>
            </a:r>
            <a:r>
              <a:rPr b="0" lang="sr-Latn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" </a:t>
            </a:r>
            <a:r>
              <a:rPr b="0" lang="sr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лоших</a:t>
            </a:r>
            <a:r>
              <a:rPr b="0" lang="sr-Latn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вести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Извештавање</a:t>
            </a:r>
            <a:r>
              <a:rPr b="0" lang="sr-Latn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вести</a:t>
            </a:r>
            <a:r>
              <a:rPr b="0" lang="sr-Latn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које</a:t>
            </a:r>
            <a:r>
              <a:rPr b="0" lang="sr-Latn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ацијент</a:t>
            </a:r>
            <a:r>
              <a:rPr b="0" lang="sr-Latn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разуме</a:t>
            </a:r>
            <a:r>
              <a:rPr b="0" lang="sr-Latn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као лош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Latn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(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ило</a:t>
            </a:r>
            <a:r>
              <a:rPr b="0" lang="sr-Latn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оја</a:t>
            </a:r>
            <a:r>
              <a:rPr b="0" lang="sr-Latn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хронична</a:t>
            </a:r>
            <a:r>
              <a:rPr b="0" lang="sr-Latn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олест</a:t>
            </a:r>
            <a:r>
              <a:rPr b="0" lang="sr-Latn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укључујући неугрожавајућу</a:t>
            </a:r>
            <a:r>
              <a:rPr b="0" lang="sr-Latn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Бег</a:t>
            </a:r>
            <a:endParaRPr b="0" lang="en-US" sz="32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4038480" cy="3989520"/>
          </a:xfrm>
          <a:prstGeom prst="rect">
            <a:avLst/>
          </a:prstGeom>
          <a:noFill/>
          <a:ln w="9360">
            <a:solidFill>
              <a:srgbClr val="7f7f7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Како</a:t>
            </a:r>
            <a:r>
              <a:rPr b="1" lang="hr-HR" sz="20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CS" sz="20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бежимо</a:t>
            </a:r>
            <a:r>
              <a:rPr b="1" lang="hr-HR" sz="20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?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Физичко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збегавање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е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лушамо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олесника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ористимо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медицински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жаргон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(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ли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трани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језик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!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олегама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ред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олесником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нтервју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усмерен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а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лекара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а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е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олесника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(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затворена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итања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а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-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е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дговори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Разговор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“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висине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”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4920" y="1571400"/>
            <a:ext cx="4038480" cy="4214520"/>
          </a:xfrm>
          <a:prstGeom prst="rect">
            <a:avLst/>
          </a:prstGeom>
          <a:noFill/>
          <a:ln w="9360">
            <a:solidFill>
              <a:srgbClr val="40404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Зашто</a:t>
            </a:r>
            <a:r>
              <a:rPr b="1" lang="hr-HR" sz="20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CS" sz="20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бежимо</a:t>
            </a:r>
            <a:r>
              <a:rPr b="1" lang="hr-HR" sz="20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?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е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знамо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ако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а саоптимо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лошу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вест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а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морамо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то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а урадимо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ојимо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е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а признамо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вој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ли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еуспех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медицине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ојимо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е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а узрокујемо 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ол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његове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реакције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а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лошу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вест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ојимо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е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апада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ацијента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ојимо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е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а покажемо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сећаје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ојимо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е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за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ебе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(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а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е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то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ама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е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огоди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429840" y="6064200"/>
            <a:ext cx="1406160" cy="337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600" spc="-1" strike="noStrike">
                <a:solidFill>
                  <a:srgbClr val="a32134"/>
                </a:solidFill>
                <a:latin typeface="Comic Sans MS"/>
              </a:rPr>
              <a:t>Prof. E. Klain</a:t>
            </a:r>
            <a:endParaRPr b="1" i="1" lang="en-US" sz="16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2560" y="1285920"/>
            <a:ext cx="9001080" cy="31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Психолошки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,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физички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,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ментални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,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егзистенцијални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аспект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лоше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вести</a:t>
            </a:r>
            <a:br>
              <a:rPr sz="2400"/>
            </a:br>
            <a:br>
              <a:rPr sz="2400"/>
            </a:b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-</a:t>
            </a:r>
            <a:r>
              <a:rPr b="0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сећај</a:t>
            </a:r>
            <a:r>
              <a:rPr b="0" lang="pt-BR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ацијента</a:t>
            </a:r>
            <a:r>
              <a:rPr b="0" lang="pt-BR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а</a:t>
            </a:r>
            <a:r>
              <a:rPr b="0" lang="pt-BR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ема</a:t>
            </a:r>
            <a:r>
              <a:rPr b="0" lang="pt-BR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аде</a:t>
            </a:r>
            <a:br>
              <a:rPr sz="2400"/>
            </a:b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-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Вероватни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утицај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a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физичко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ли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мент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лно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тањ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ацијента</a:t>
            </a:r>
            <a:br>
              <a:rPr sz="2400"/>
            </a:b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-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ужавањ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збора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животу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ацијента</a:t>
            </a:r>
            <a:endParaRPr b="0" lang="en-US" sz="2400" spc="-1" strike="noStrike">
              <a:solidFill>
                <a:srgbClr val="a32134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56840" y="-214560"/>
            <a:ext cx="7458120" cy="25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Изазови у комуникацији</a:t>
            </a:r>
            <a:endParaRPr b="0" lang="en-US" sz="32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285480" y="2214360"/>
            <a:ext cx="8001000" cy="342900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аопштавање лоших вести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рицање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ослух са породицом пацијента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тешка питања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онфликт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емотивне ракције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07:18:45Z</dcterms:created>
  <dc:creator>Nebojša</dc:creator>
  <dc:description/>
  <dc:language>en-US</dc:language>
  <cp:lastModifiedBy>Milanče Sin</cp:lastModifiedBy>
  <dcterms:modified xsi:type="dcterms:W3CDTF">2023-02-04T19:51:33Z</dcterms:modified>
  <cp:revision>118</cp:revision>
  <dc:subject/>
  <dc:title>Slide 1</dc:title>
</cp:coreProperties>
</file>